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CCF9-AE78-4D88-A26B-68E5E0E64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320E-65CA-4F54-A782-65C752053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23EC-F24C-4CA1-801B-A3A99566B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1077-E886-4B93-81C5-AC6FE35B2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47FE2-3A1A-44A3-9D73-9F59D10FF8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894C4-66F4-438E-8A30-B7DE32632E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1B5F3-3737-4B6B-8EF9-8BBA088778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F6492-D807-4BA0-ADA3-789E0025DC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C5A81-4FFB-4A9C-B735-4B1A221813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7660B-2B05-41B0-BF76-2EBB53086B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9C260-DC5A-4443-BE69-A14F17D132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FC87-EC94-463C-81C7-CE02D70E2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C97E4-07E9-4BF9-BA62-A42F20468B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ADBB3-2670-45DA-94F2-250106EA57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1393A-7A1D-4E4F-A2FF-8D657ECD9D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7F3A3-89B7-46A7-98AE-5BFA14B9A9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C7928-C2D4-438E-AEF9-6F46162D1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E3896-5166-4246-B641-F98C5F5D0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7C945-0E1F-4B89-9983-4DF23A4AD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E8AC4-83C7-4957-B724-3B9D9C8CF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0AB3-8A27-4296-92CF-412296602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FB80-C232-4B29-85A1-D625CA0F4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1409E-DBC6-4801-9A14-BE05D30CA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C572-D8DF-4A7C-B7E6-8F606B052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5658059-3AFF-40C9-BE75-4BE6C66751D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D2CFF37-B23F-4BDA-8092-E642543CAB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3240" y="208080"/>
            <a:ext cx="356544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003640" y="490680"/>
            <a:ext cx="3567240" cy="536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58CA9981-1831-4031-9C16-5E176AC369B1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D35F1AA1-361D-4189-B2F6-E7FD77103B66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7-07-03T09:01:17Z</dcterms:modified>
  <cp:revision>367</cp:revision>
  <dc:subject/>
  <dc:title>No Slide Title</dc:title>
</cp:coreProperties>
</file>